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FC8BA-D105-4553-B5BE-885FCE57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8B2C-FA5B-48F7-8EE5-67BC5472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F900-92D0-44A4-860E-60BEDB8D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5BB8-5323-4416-B449-CFF2C66C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7C27-7D72-4E8D-B25F-A9F3BD54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2618-B131-4008-B38B-40D36907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EB78-6F07-4570-A117-08298EB0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A4EE-C4D4-4FDB-B7FC-ADFFF410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AF38-97A0-4F1F-85C0-16C161B5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308A-47FE-4A18-B617-B96FFF09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F86E-BE04-47F4-A6A9-BB3C067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3B75-7C90-4A8C-B861-E5C0478C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7B63-8AB3-4107-881D-502A087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49D7-6EB7-43A6-A706-47B6773F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0D49-2B54-4953-9065-D698F47F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C508-2D8D-44A1-8959-F705B095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6EA1-1506-42F4-AD3F-9F63A6F1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5C64-3EDD-4310-B6DA-D2C14689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A0C6-D6D2-4FD7-B15E-E493DFE5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72B2-5B47-4BDB-8E15-F90FBCA5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04D3-9852-47D2-A591-D8591C67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F543-8B86-4C39-B870-EC27749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FFB7-5BBC-41E5-8893-30F7AB56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6E89-945B-4986-8ED5-F0BBF89D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26A0-55BF-4608-8C0C-BFF1C21808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236A-8CCB-4A7A-BC94-22CA6E5ACF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ubprograme</a:t>
            </a:r>
            <a:br>
              <a:rPr sz="4800"/>
            </a:br>
            <a:br>
              <a:rPr sz="4800"/>
            </a:br>
            <a:r>
              <a:rPr b="0" lang="ro-RO" sz="4100" spc="-1" strike="noStrike">
                <a:solidFill>
                  <a:srgbClr val="ffffff"/>
                </a:solidFill>
                <a:latin typeface="Arial"/>
              </a:rPr>
              <a:t>Modul de transmitere al parametrilor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3200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 Sanda Popescu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odul de transmitere al parametrilo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 valo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 referi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ţ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 point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ransmiterea parametrilor prin valoar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ar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r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unc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sch(int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int 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=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46640" y="1980720"/>
            <a:ext cx="3440160" cy="32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elul func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cin&gt;&gt;a&gt;&g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(a,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9960" y="5218200"/>
            <a:ext cx="778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u intevine nicio schimbare a valorilor celor doua variabile a si b, in urma apelului functiei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ch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eoarece parametrii au fost transmişi prin valo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Reprezentarea pe stivă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(STAC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205740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5867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55627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51814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267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396252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21120" y="556272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21120" y="518148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3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3581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5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2004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599840" y="39625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599840" y="358128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1676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xecuţia funcţi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05740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5867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5627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51814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267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9625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31000" y="556272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31000" y="518148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3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5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320040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09720" y="39625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409720" y="358128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16765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upă apel zona STACK se eliberează şi valorile variabilelor rămân neschimb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20040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5105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de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32004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5181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5334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de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819520"/>
            <a:ext cx="2438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952880" y="2743200"/>
            <a:ext cx="243864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33320" y="32767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Variabilă local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ransmiterea parametrilor prin referin</a:t>
            </a:r>
            <a:r>
              <a:rPr b="0" lang="ro-RO" sz="3500" spc="-1" strike="noStrike">
                <a:solidFill>
                  <a:srgbClr val="ffffff"/>
                </a:solidFill>
                <a:latin typeface="Arial"/>
              </a:rPr>
              <a:t>ţ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ar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unc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sch(int &amp;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 &amp;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int 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=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46640" y="1980720"/>
            <a:ext cx="3440160" cy="32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elul func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cin&gt;&gt;a&gt;&g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(a,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960" y="521820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evine schimbarea valorilor celor doua variabile a si b,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urma apelului functiei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ch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x şi y fiind variabile de tip referinţ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Reprezentarea pe stivă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(STAC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n urma apelului funcţiei,  zona STACK se eliberează ş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valorile variabilelor  a şi b se  modific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205740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5867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55627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51814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4267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9625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8840" y="55627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8840" y="5181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5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9625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se referă la variabila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35812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se referă la variabil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320040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437920" y="39625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de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32004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5181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2895480"/>
            <a:ext cx="274320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80720" y="2819520"/>
            <a:ext cx="25909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41148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5791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114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37339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5334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285640" y="5105520"/>
            <a:ext cx="3049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85640" y="5562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920" y="32004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Variabilă local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ransmiterea parametrilor prin intermediul pointerilo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aratia func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sch(int 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 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int *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z=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*z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46640" y="1980720"/>
            <a:ext cx="3440160" cy="32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elul func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 cin&gt;&gt;a&gt;&g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(&amp;a, &amp;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t&lt;&lt;a&lt;&lt;‘ ‘&lt;&lt;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334120"/>
            <a:ext cx="81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evine schimbarea valorilor celor dou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riabile a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b,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urma apelului functiei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ch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eoarece pe stivă s-a transmis adresa variabile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Reprezentarea pe stivă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(STAC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n urma apelului funcţiei,  zona STACK se eliberează ş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valorile variabilelor  a şi b se  modific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205740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5867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55627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518148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4267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9625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58840" y="55627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3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8840" y="5181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=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5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3962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x  reţine adresa variabilei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3581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y reţine adresa  variabilei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320040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437920" y="39625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na de 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52880" y="32004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5181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2895480"/>
            <a:ext cx="274320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980720" y="2819520"/>
            <a:ext cx="25909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1148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791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4114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5334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285640" y="5562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209320" y="5181480"/>
            <a:ext cx="38124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6960" y="32004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Variabilă local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2590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um se rezolvă problemele dintr-o fabrică într-o lume tehnologică?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4190760"/>
            <a:ext cx="7543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m poate rezolva directorul (managerul) toate probleme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Singur..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73392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ffffff"/>
                </a:solidFill>
                <a:latin typeface="Arial"/>
              </a:rPr>
              <a:t>...sau p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oate trasa sarcini subalternilor</a:t>
            </a:r>
            <a:r>
              <a:rPr b="0" lang="ro-RO" sz="4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076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ce</a:t>
            </a: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ştia le pot rezolva singuri..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4350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... sau pot </a:t>
            </a:r>
            <a:r>
              <a:rPr b="0" lang="ro-RO" sz="3900" spc="-1" strike="noStrike" u="sng">
                <a:solidFill>
                  <a:srgbClr val="ffffff"/>
                </a:solidFill>
                <a:uFillTx/>
                <a:latin typeface="Arial"/>
              </a:rPr>
              <a:t>apela</a:t>
            </a: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 la subalternii lor..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43800" y="3657600"/>
            <a:ext cx="1376280" cy="145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4038480"/>
            <a:ext cx="134784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1523880" cy="1220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86400" y="3962520"/>
            <a:ext cx="1193760" cy="1218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629400" y="1447920"/>
            <a:ext cx="110160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505320" y="3962520"/>
            <a:ext cx="1120680" cy="1218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838080" y="1676520"/>
            <a:ext cx="1281240" cy="1523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380520" y="3352680"/>
            <a:ext cx="762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27672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3124080"/>
            <a:ext cx="1676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943600" y="304812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304812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5720" y="5452920"/>
            <a:ext cx="76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...pentru a rezolva probleme mai m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Cum circulă datele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ubalternii primesc sarcini (parametri de intrare) şi oferă rezultatele muncii lor (parametri de ieşi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057400" y="182880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Arial"/>
              </a:rPr>
              <a:t>Funcţiile p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ocedur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ofer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ul sau mai multe rezultate prin intermediul parametrilor, sau nu ofer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ici un rezult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.  void citeste(int &amp;n, float &amp;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er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ofer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 singur rezultat, prin numele func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.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suma(int 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763120" y="2590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502920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arametri transmişi prin referinţ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352680"/>
            <a:ext cx="121932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352680"/>
            <a:ext cx="25146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22600" y="5562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Tipul functi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4648320"/>
            <a:ext cx="152424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3352680"/>
            <a:ext cx="1447560" cy="228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334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arametru transm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in valo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980720" y="4648320"/>
            <a:ext cx="2514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rototipul </a:t>
            </a: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 antetul unei functi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6933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 functie poate fi descrisă prin prototip şi declarată pr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ti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d citeste(int , float);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// se încheie c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d citeste (int &amp;n, float &amp;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5:59:38Z</dcterms:created>
  <dc:creator>CCD Brasov</dc:creator>
  <dc:description/>
  <dc:language>en-US</dc:language>
  <cp:lastModifiedBy>CCD Brasov</cp:lastModifiedBy>
  <dcterms:modified xsi:type="dcterms:W3CDTF">2007-07-14T13:31:33Z</dcterms:modified>
  <cp:revision>16</cp:revision>
  <dc:subject/>
  <dc:title>Functii C++</dc:title>
</cp:coreProperties>
</file>